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9.wmf" ContentType="image/x-wmf"/>
  <Override PartName="/ppt/media/image5.jpeg" ContentType="image/jpeg"/>
  <Override PartName="/ppt/media/image4.png" ContentType="image/png"/>
  <Override PartName="/ppt/media/image12.wmf" ContentType="image/x-wmf"/>
  <Override PartName="/ppt/media/image3.wmf" ContentType="image/x-wmf"/>
  <Override PartName="/ppt/media/image7.wmf" ContentType="image/x-wmf"/>
  <Override PartName="/ppt/media/image14.wmf" ContentType="image/x-wmf"/>
  <Override PartName="/ppt/media/camera.wav" ContentType="audio/x-wav"/>
  <Override PartName="/ppt/media/explode.wav" ContentType="audio/x-wav"/>
  <Override PartName="/ppt/media/image10.wmf" ContentType="image/x-wmf"/>
  <Override PartName="/ppt/media/image11.wmf" ContentType="image/x-wmf"/>
  <Override PartName="/ppt/media/type.wav" ContentType="audio/x-wav"/>
  <Override PartName="/ppt/media/image1.wmf" ContentType="image/x-wmf"/>
  <Override PartName="/ppt/media/image2.gif" ContentType="image/gif"/>
  <Override PartName="/ppt/media/whoosh.wav" ContentType="audio/x-wav"/>
  <Override PartName="/ppt/media/image13.wmf" ContentType="image/x-wmf"/>
  <Override PartName="/ppt/media/wind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061-CF12-42A2-8DBC-08B79BD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761-31BC-41CE-A1EA-EA0784AE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E2F-7D66-4984-B5B5-1734E6A9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4DA-E662-4493-96DC-EBAACCE3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1A2-34A2-4DF7-B648-9BB966D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68D-D71A-453E-8A34-B565815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BEC-9D09-464B-8B9E-16CA9B9E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2A9-F509-49F2-8774-C9AF60F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1AB-671D-4207-95AE-14DF74F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85B-7761-400C-85C7-E8196F3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FC9-CFD6-40D6-83B1-F9F0A44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C3E-5712-4DC1-9914-67E280E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B7EAF-EFA5-4834-A139-B4CE6E43EC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hick"/>
              </a:rPr>
              <a:t>All about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hick"/>
              </a:rPr>
              <a:t>McKen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hick"/>
              </a:rPr>
              <a:t>P3-#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21333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lba Super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rad           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Joann         M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owe    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Ashley    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Kaleb    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McKkenzie   m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Camrem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276720" cy="26672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  <p:sndAc>
      <p:stSnd>
        <p:snd r:embed="rId2" name="wind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ystoid"/>
              </a:rPr>
              <a:t>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C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Mc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Hay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Kay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725480" cy="240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19256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3"/>
    <p:sndAc>
      <p:stSnd>
        <p:snd r:embed="rId4" name="explode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by Kruffy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Dog          Ma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ird         S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Lizard     b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82592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175284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1968480" cy="1644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  <p:sndAc>
      <p:stSnd>
        <p:snd r:embed="rId5" name="type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arwig Factory"/>
              </a:rPr>
              <a:t>Food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Sea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Panc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2"/>
    <p:sndAc>
      <p:stSnd>
        <p:snd r:embed="rId2" name="whoo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by Kruffy"/>
              </a:rPr>
              <a:t>Food I don’t lik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Carr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Hambur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/>
    <p:sndAc>
      <p:stSnd>
        <p:snd r:embed="rId2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rosty"/>
              </a:rPr>
              <a:t>Places I want 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Ala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6200000">
            <a:off x="5408640" y="213336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  <p:sndAc>
      <p:stSnd>
        <p:snd r:embed="rId2" name="cashreg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arwig Factory"/>
              </a:rPr>
              <a:t>Things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Good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Gymna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582720" cy="3426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/>
    <p:sndAc>
      <p:stSnd>
        <p:snd r:embed="rId2" name="applause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AX0991</dc:creator>
  <dc:description/>
  <dc:language>en-US</dc:language>
  <cp:lastModifiedBy>MMAX0991</cp:lastModifiedBy>
  <cp:revision>0</cp:revision>
  <dc:subject/>
  <dc:title>All about me!!!</dc:title>
</cp:coreProperties>
</file>